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BA2-8F50-4069-9AF2-DB64BBA7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4B2-1354-4BF6-A578-37541117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F21-88AD-4DAF-AAF6-2ED14E04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F1DF-F60D-46E2-988D-26F69A5D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69A-1191-4049-A443-83285FB8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326-558F-41B2-A77F-19392A36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9FE-F7D7-46B0-A37B-7362641E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590-8256-4B22-8135-34C002ED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19A-8008-4F2F-B92C-1E857677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6F0-BE43-4295-B85A-608F770C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5EA0-7ACF-43BC-82F8-6C9A46CB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9A4-7DC4-4367-99BB-EDD0B127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FB8B-4897-4F74-9F78-9F51C3E74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templates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templates"/>
          <p:cNvPicPr/>
          <p:nvPr/>
        </p:nvPicPr>
        <p:blipFill>
          <a:blip r:embed="rId1"/>
          <a:stretch/>
        </p:blipFill>
        <p:spPr>
          <a:xfrm>
            <a:off x="360360" y="482760"/>
            <a:ext cx="6135840" cy="81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44:25Z</dcterms:created>
  <dc:creator>Brook Polidano</dc:creator>
  <dc:description/>
  <dc:language>en-US</dc:language>
  <cp:lastModifiedBy>Brook Polidano</cp:lastModifiedBy>
  <dcterms:modified xsi:type="dcterms:W3CDTF">2010-03-29T04:45:44Z</dcterms:modified>
  <cp:revision>1</cp:revision>
  <dc:subject/>
  <dc:title>Slide 1</dc:title>
</cp:coreProperties>
</file>